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AD1-E730-41D0-8EF1-DD00799E23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617-FB23-451F-9D1D-CFBD607E3B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EAD-5686-4C3F-B8C0-DBB556488A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8E0D-1C28-4EBD-B941-2D8F830EA8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C18-7533-41DC-B022-F04CAED30F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C576-7C4B-4750-9853-476498E1A7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A7B3-D8A8-44B1-AF8F-BDCE6269EF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5DF2-FBEF-4710-9BB6-4F13282E80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AC4-1A92-450D-8CC6-388D9852141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8316-D25F-46E0-B255-B8637289DF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FE6E-3647-4857-B3F4-8A3A0C8D77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DAD7-541B-44E7-94F3-A83362A8D0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2A7-33E2-416E-ADBD-A17B1B47DF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6C6A-A779-4BC1-9305-A8CF4EC8933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966-D612-442B-B4FA-6A2165F846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E3EE-40D3-4DC8-9305-C2DF839F93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DCF9-92C1-4A59-A3C5-AA1EE39F99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8ED-6354-4093-B44B-C3834BD56B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130A-6073-4182-A5C1-4734F93F1F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1665-4450-4849-A192-B18E6C309D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ED49-1DC3-4767-ACF1-0164CDEFAC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148-520F-4104-8AE0-14E4178623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73DB-0A7B-4771-9C89-F3AEDBCA0B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C373-947C-40C3-81B0-D3E46C71AE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6A66-A368-40A4-8500-BE3F7C3A6A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7CB-58F0-4528-846D-6FD24862DE7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32D-6297-4F01-8145-892D15DFF3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2980-7DAA-4922-B456-9DFFA61D67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07F-63FA-4299-88DA-2DA0EDDF74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08F3-D009-4E1A-98D1-90FD846DCB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94E8-B421-4D92-BE61-40C09F7CDE7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749-69D4-4E4F-B504-DAB4BCBEB6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A21-FD31-446E-B35F-106B94F8F0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C82E-9A74-4EEF-9EDE-FCF2681B3A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988-763A-49D6-8C61-6A708CC129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28C-E836-4959-B901-3C98B6A50C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0D6-914A-48F9-9DB7-9BD1E778EC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598E-03EF-4FC7-9F47-36537720CB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FAE-D003-4B14-A2D8-24A12E8F31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E7A-E054-4090-A082-503544C4AE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0A4-BE1D-4A86-984C-6B4044A1A1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43EA-AA98-48F8-A178-D6CE5FA781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B47-6774-4662-9FE1-493DB9530B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9A0-A97F-4AB3-A193-3DB7215B34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89F-7FBD-4D1E-A4AD-BCA0EECE3D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600-DA1F-4C7B-8A35-F2F72406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3E6-D463-4902-8168-96E65A50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8FC-FF99-4FC9-A1BA-2927A73F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2BE-4269-4937-B2C4-84EC7C3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CF3-B372-4661-B049-45B82D8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96F-101D-48D0-8169-224B049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50F-029D-46E7-B8B4-05910D8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758-E1E6-4690-9B14-74F8325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7EB-7244-42C6-9675-424355D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EEA-F2B1-4111-BFC5-3F9DF72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FDC-E0C8-40FF-971B-545CF63A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D2A-85D2-4813-97AD-DFB217F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396-E29F-4AE9-82F1-E69B59B5D3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4419720" y="1676520"/>
            <a:ext cx="4647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tter, Measurement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oblem Sol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19720" y="114300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e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4419720" y="5791320"/>
            <a:ext cx="4724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son So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0924Tro3e_ecat.jpg"/>
          <p:cNvPicPr/>
          <p:nvPr/>
        </p:nvPicPr>
        <p:blipFill>
          <a:blip r:embed="rId1"/>
          <a:stretch/>
        </p:blipFill>
        <p:spPr>
          <a:xfrm>
            <a:off x="304920" y="990720"/>
            <a:ext cx="4093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mixtures is separated best by deca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queous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and a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olatile liquid and a non-volatile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mixtures is separated best by deca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queous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lid and a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olatile liquid and a non-volatile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X:\50627 IRDVD Tro Chemistry A Molecular Approach\Working Files 50627\JPEG 50627\ch01\01_09_FigureC.jpg"/>
          <p:cNvPicPr/>
          <p:nvPr/>
        </p:nvPicPr>
        <p:blipFill>
          <a:blip r:embed="rId1"/>
          <a:srcRect l="29865" t="0" r="24039" b="10270"/>
          <a:stretch/>
        </p:blipFill>
        <p:spPr>
          <a:xfrm>
            <a:off x="4821120" y="3979800"/>
            <a:ext cx="2832120" cy="24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represents a chemical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ing water to make ice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ice evaporating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sting a piece of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ing sugar in hot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ing an aluminum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X:\50627 IRDVD Tro Chemistry A Molecular Approach\Working Files 50627\JPEG 50627\ch01\01_09_FigureC.jpg"/>
          <p:cNvPicPr/>
          <p:nvPr/>
        </p:nvPicPr>
        <p:blipFill>
          <a:blip r:embed="rId1"/>
          <a:srcRect l="0" t="0" r="0" b="10270"/>
          <a:stretch/>
        </p:blipFill>
        <p:spPr>
          <a:xfrm>
            <a:off x="2986200" y="3979800"/>
            <a:ext cx="6143400" cy="2414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represents a chemical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ing water to make ice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ice evaporating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asting a piece of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ing sugar in hot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ing an aluminum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chemi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ing oranges to make orang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butter for pop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sand from g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 decomposing to 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as a gas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chemi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ing oranges to make orang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butter for pop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sand from g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 peroxide decomposing to wa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as a gas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lways conserved in a physical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low potential energy tend to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irection of high potential energy spo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energy is a form of potenti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with high potential energy ar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 energy is a form of kinetic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is always conserved in a physical 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low potential energy tend to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irection of high potential energy spo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energy is a form of potenti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with high potential energy ar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 energy is a form of kinetic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NOT a base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NOT a base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s form when a liquid is heated in a tea 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bbles are the gas state of the original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es in the liquid have enough energy to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est whether the bubbles are the gas state of the liquid by removing the heat, at which point the gas should con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0" b="2783"/>
          <a:stretch/>
        </p:blipFill>
        <p:spPr>
          <a:xfrm>
            <a:off x="5202360" y="1944720"/>
            <a:ext cx="3857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ine vaporizes at –34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What is this temperature in degrees Fahrenh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.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7.5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.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ine vaporizes at –34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What is this temperature in degrees Fahrenh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.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.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7.5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.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s in Death Valley can rise above 120 ° F.  What is this temperature in Kelv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2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75687" t="14038" r="1287" b="15273"/>
          <a:stretch/>
        </p:blipFill>
        <p:spPr>
          <a:xfrm>
            <a:off x="5376960" y="2446200"/>
            <a:ext cx="2684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s in Death Valley can rise above 120 ° F.  What is this temperature in Kelv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2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75687" t="14038" r="1287" b="15273"/>
          <a:stretch/>
        </p:blipFill>
        <p:spPr>
          <a:xfrm>
            <a:off x="5376960" y="2446200"/>
            <a:ext cx="2684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would NOT be consider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an unknown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olid at 25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density of 1.38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lts at 62.0 °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volume of 0.52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h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would NOT be consider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an unknown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olid at 25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density of 1.38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lts at 62.0 °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volume of 0.52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h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ensity of a solution that has a mas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5 g and a volume of 15.8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7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9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54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ensity of a solution that has a mas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5 g and a volume of 15.8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7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9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54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has the largest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4883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10.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5.0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sink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but floats 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0" t="0" r="0" b="2778"/>
          <a:stretch/>
        </p:blipFill>
        <p:spPr>
          <a:xfrm>
            <a:off x="5546880" y="1655640"/>
            <a:ext cx="2609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has the largest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514600"/>
            <a:ext cx="4883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10.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5.0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terial that sinks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anol but floats 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rcRect l="0" t="0" r="0" b="2778"/>
          <a:stretch/>
        </p:blipFill>
        <p:spPr>
          <a:xfrm>
            <a:off x="5546880" y="1655640"/>
            <a:ext cx="2609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s form when a liquid is heated in a tea 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bbles are the gas state of the original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es in the liquid have enough energy to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est whether the bubbles are the gas state of the liquid by removing the heat, at which point the gas should con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0" t="0" r="0" b="2783"/>
          <a:stretch/>
        </p:blipFill>
        <p:spPr>
          <a:xfrm>
            <a:off x="5202360" y="1944720"/>
            <a:ext cx="3857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eading a graduated cylinder, read the volume at the bottom of the meniscu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volume of liquid is in the graduated cyl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rcRect l="0" t="0" r="0" b="13892"/>
          <a:stretch/>
        </p:blipFill>
        <p:spPr>
          <a:xfrm>
            <a:off x="5378400" y="3059280"/>
            <a:ext cx="2759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eading a graduated cylinder, read the volume at the bottom of the meniscu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volume of liquid is in the graduated cyl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rcRect l="0" t="0" r="0" b="13892"/>
          <a:stretch/>
        </p:blipFill>
        <p:spPr>
          <a:xfrm>
            <a:off x="5378400" y="3059280"/>
            <a:ext cx="2759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numbers has four significant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0" b="31944"/>
          <a:stretch/>
        </p:blipFill>
        <p:spPr>
          <a:xfrm>
            <a:off x="4657680" y="2514600"/>
            <a:ext cx="3544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numbers has four significant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0" t="0" r="0" b="31944"/>
          <a:stretch/>
        </p:blipFill>
        <p:spPr>
          <a:xfrm>
            <a:off x="4657680" y="2514600"/>
            <a:ext cx="3544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following with the correct number of significant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2460600" y="1987560"/>
            <a:ext cx="42163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following with the correct number of significant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460600" y="1987560"/>
            <a:ext cx="42163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measures the mass of a penny four times and records the following data.  What can be said about the data if the actual mass of the penny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987 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706840"/>
          <a:ext cx="2590560" cy="37875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s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Content Placeholder 2"/>
          <p:cNvSpPr/>
          <p:nvPr/>
        </p:nvSpPr>
        <p:spPr>
          <a:xfrm>
            <a:off x="453960" y="2952720"/>
            <a:ext cx="50562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both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nd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either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nor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accurate, but 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ot accurate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t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measures the mass of a penny four times and records the following data.  What can be said about the data if the actual mass of the penny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987 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19920" y="2706840"/>
          <a:ext cx="2590560" cy="37875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s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Content Placeholder 2"/>
          <p:cNvSpPr/>
          <p:nvPr/>
        </p:nvSpPr>
        <p:spPr>
          <a:xfrm>
            <a:off x="453960" y="2952720"/>
            <a:ext cx="50562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both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nd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either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nor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accurate, but 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ot accurate, bu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t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ounces of mercury are in 1.0 cubic meters  of mercury? Hint: the density of mercury is 13.5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ounce = 28.35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8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0" t="0" r="0" b="2780"/>
          <a:stretch/>
        </p:blipFill>
        <p:spPr>
          <a:xfrm>
            <a:off x="5086440" y="2514600"/>
            <a:ext cx="3249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ounces of mercury are in 1.0 cubic meters  of mercury? Hint: the density of mercury is 13.5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ounce = 28.35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8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0" r="0" b="2780"/>
          <a:stretch/>
        </p:blipFill>
        <p:spPr>
          <a:xfrm>
            <a:off x="5086440" y="2514600"/>
            <a:ext cx="3249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correct for the material pi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quid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5367240" y="2076480"/>
            <a:ext cx="3200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has an edge length of 6.4 in.  What is the volume of the cube in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has an edge length of 6.4 in.  What is the volume of the cube in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3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mass of 2.5 cups of water if the density of water is 1.00 g/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cup = 24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rcRect l="25887" t="35942" r="51082" b="8213"/>
          <a:stretch/>
        </p:blipFill>
        <p:spPr>
          <a:xfrm>
            <a:off x="5799240" y="2541600"/>
            <a:ext cx="1965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mass of 2.5 cups of water if the density of water is 1.00 g/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cup = 24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rcRect l="25887" t="35942" r="51082" b="8213"/>
          <a:stretch/>
        </p:blipFill>
        <p:spPr>
          <a:xfrm>
            <a:off x="5799240" y="2541600"/>
            <a:ext cx="1965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of aluminum (density = 2.70 g/mL) has a mass of 17.2 g.  What is the edge length of the c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of aluminum (density = 2.70 g/mL) has a mass of 17.2 g.  What is the edge length of the c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8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correct for the material pi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seous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quid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5367240" y="2076480"/>
            <a:ext cx="3200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pure subst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f st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pure subst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f st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eterogeneous mi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eterogeneous mi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cken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2:50:26Z</dcterms:created>
  <dc:creator>GEXINC</dc:creator>
  <dc:description/>
  <dc:language>en-US</dc:language>
  <cp:lastModifiedBy>wtwining</cp:lastModifiedBy>
  <cp:lastPrinted>2013-03-26T13:59:02Z</cp:lastPrinted>
  <dcterms:modified xsi:type="dcterms:W3CDTF">2013-08-27T18:45:40Z</dcterms:modified>
  <cp:revision>21</cp:revision>
  <dc:subject/>
  <dc:title>PowerPoint Presentation</dc:title>
</cp:coreProperties>
</file>